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78A9-D30D-4AB3-9EEF-C8FE77E0C3C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EE1B-2314-42AD-A9A4-1C686E12B086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DA65-A888-4EA2-A585-55C23A24360E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FCDF-FF41-4DD6-A3C9-BA9D11219E6F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6C7C-DF5F-48D4-A62C-F3614E87D6C6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E78-F7AC-4B89-8125-FA04DB37DA7F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0DB6-1779-437D-9163-B4EC3ED4EEE0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4" name="Заметки 4"/>
          <p:cNvSpPr/>
          <p:nvPr/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34CF-08F5-46B6-BF81-9FD701639B24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30200" y="461808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9B39-8937-4DD8-9719-CE93CB72D6A3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153D-1953-408B-80D4-AEBC644F2849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43D2-AFEB-4596-A1AF-2A0E5058C6C0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2BB-90ED-4E71-8D1A-56A1A06D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A00-C9E8-4D83-A4C3-E8E88E7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6AC-E721-4332-ABBC-30147E4A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0E4-90EE-4C4B-9C9C-122689DD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319F-CF7C-4EB7-A239-184B729E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566F-9F21-43FB-8B0A-E8739F19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B861-DC3A-47B0-9CC2-A383BD39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9E96-8D2F-424C-9F9A-806A8807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5953-AD9A-447D-916B-AB702834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836D-3C64-487C-9124-8DB29ABE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3761-818B-4CFC-A520-85ECD07A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856-1D6B-4229-B332-36E65868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B72F-927D-48C1-8D35-FC4D811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057E-79DA-4EE1-8EC3-FB9CDF3F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60D1-B4DB-46B3-A16C-2EADEFB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AF67-C663-466A-B7EE-820CC146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9EB-F35F-446A-A9E0-74967C65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A21-D020-43C6-BFAA-E1566B31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DA6-3567-49DB-81AC-62870065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787-FBB6-4D49-A356-7D2359B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8C7-B7CA-4D13-A16B-3351B3F7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FC7-51F4-4E3A-B268-F8B9ACC0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041-6599-48DB-BF97-7B20531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19E-E1D7-49CC-A308-C14F44B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051-0270-4C4C-96C8-274BD06935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DB10-8D38-4E96-A595-F415E33CA3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s://ru.wikipedia.org/wiki/8_&#1084;&#1072;&#1103;" TargetMode="External"/><Relationship Id="rId4" Type="http://schemas.openxmlformats.org/officeDocument/2006/relationships/hyperlink" Target="https://ru.wikipedia.org/wiki/1967_&#1075;&#1086;&#1076;" TargetMode="External"/><Relationship Id="rId5" Type="http://schemas.openxmlformats.org/officeDocument/2006/relationships/hyperlink" Target="https://ru.wikipedia.org/wiki/&#1052;&#1086;&#1075;&#1080;&#1083;&#1072;_&#1053;&#1077;&#1080;&#1079;&#1074;&#1077;&#1089;&#1090;&#1085;&#1086;&#1075;&#1086;_&#1057;&#1086;&#1083;&#1076;&#1072;&#1090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ень Неизвестного Солдата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7" descr="mogila-Neizvestnogo-soldata"/>
          <p:cNvPicPr/>
          <p:nvPr/>
        </p:nvPicPr>
        <p:blipFill>
          <a:blip r:embed="rId1"/>
          <a:stretch/>
        </p:blipFill>
        <p:spPr>
          <a:xfrm>
            <a:off x="179280" y="2781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h000125m12"/>
          <p:cNvPicPr/>
          <p:nvPr/>
        </p:nvPicPr>
        <p:blipFill>
          <a:blip r:embed="rId1"/>
          <a:stretch/>
        </p:blipFill>
        <p:spPr>
          <a:xfrm>
            <a:off x="3786120" y="4238640"/>
            <a:ext cx="3490920" cy="26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20128813644176"/>
          <p:cNvPicPr/>
          <p:nvPr/>
        </p:nvPicPr>
        <p:blipFill>
          <a:blip r:embed="rId2"/>
          <a:stretch/>
        </p:blipFill>
        <p:spPr>
          <a:xfrm>
            <a:off x="0" y="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7" descr="05082012_7"/>
          <p:cNvPicPr/>
          <p:nvPr/>
        </p:nvPicPr>
        <p:blipFill>
          <a:blip r:embed="rId3"/>
          <a:stretch/>
        </p:blipFill>
        <p:spPr>
          <a:xfrm>
            <a:off x="0" y="271476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&amp;Pcy;&amp;acy;&amp;rcy;&amp;acy; &amp;mcy;&amp;ocy;&amp;lcy;&amp;ocy;&amp;dcy;&amp;ocy;&amp;zhcy;&amp;iecy;&amp;ncy;&amp;ocy;&amp;vcy; &amp;ucy; &amp;vcy;&amp;iecy;&amp;chcy;&amp;ncy;&amp;ocy;&amp;gcy;&amp;ocy; &amp;ocy;&amp;gcy;&amp;ncy;&amp;yacy; &amp;vcy; &amp;Acy;&amp;lcy;&amp;iecy;&amp;kcy;&amp;scy;&amp;acy;&amp;ncy;&amp;dcy;&amp;rcy;&amp;ocy;&amp;vcy;&amp;scy;&amp;kcy;&amp;ocy;&amp;mcy; &amp;scy;&amp;acy;&amp;dcy;&amp;ucy;. &amp;Mcy;&amp;ocy;&amp;scy;&amp;kcy;&amp;vcy;&amp;acy;; &amp;fcy;&amp;ocy;&amp;tcy;&amp;ocy; 1682505, &amp;fcy;&amp;ocy;&amp;tcy;&amp;ocy;&amp;gcy;&amp;rcy;&amp;acy;&amp;fcy; &amp;IEcy;&amp;kcy;&amp;acy;&amp;tcy;&amp;iecy;&amp;rcy;&amp;icy;&amp;ncy;&amp;acy; &amp;Ocy;&amp;vcy;&amp;scy;&amp;yacy;&amp;ncy;&amp;ncy;&amp;icy;&amp;kcy;&amp;ocy;&amp;vcy;&amp;acy;. &amp;Fcy;&amp;ocy;&amp;tcy;&amp;ocy;&amp;bcy;&amp;acy;&amp;ncy;&amp;kcy; &amp;Lcy;&amp;ocy;&amp;rcy;&amp;icy; - &amp;Pcy;&amp;rcy;"/>
          <p:cNvPicPr/>
          <p:nvPr/>
        </p:nvPicPr>
        <p:blipFill>
          <a:blip r:embed="rId4"/>
          <a:srcRect l="5845" t="5102" r="5845" b="13606"/>
          <a:stretch/>
        </p:blipFill>
        <p:spPr>
          <a:xfrm>
            <a:off x="6676920" y="2357280"/>
            <a:ext cx="2467080" cy="2341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4000680" y="14292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много лет прошло с тех пор, а этот памятник продолжает оставаться одним из самых известных во всей стране. Сюда приходят взрослые и дети не только в День Победы. К Вечному огню возлагают цветы молодожены, иностранные делегации и главные лица России, выказывая бесконечное уважение безымянным геро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ута молч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&amp;Scy;&amp;ucy;&amp;scy;&amp;acy;&amp;ncy;&amp;icy;&amp;ncy; / &amp;Kcy;&amp;acy;&amp;zcy;&amp;acy;&amp;ncy;&amp;softcy; &amp;ocy;&amp;scy;&amp;tcy;&amp;acy;&amp;ncy;&amp;iecy;&amp;tcy;&amp;scy;&amp;yacy; &amp;bcy;&amp;iecy;&amp;zcy; &amp;Vcy;&amp;iecy;&amp;chcy;&amp;ncy;&amp;ocy;&amp;gcy;&amp;ocy; &amp;ocy;&amp;gcy;&amp;ncy;&amp;yacy; &amp;vcy; &amp;Dcy;&amp;iecy;&amp;ncy;&amp;softcy; &amp;Pcy;&amp;ocy;&amp;bcy;&amp;iecy;&amp;dcy;&amp;ycy;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pic>
        <p:nvPicPr>
          <p:cNvPr id="132" name="metronom1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5436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знаю – никакой моей вин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другие не пришли с войн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они – кто старше, кто молож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лись там. И не о том же реч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я их мог и не сумел сбер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 не о том. Но все же, все же все же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 Т. Твардовский, 1966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6357960" y="3071880"/>
            <a:ext cx="2536920" cy="338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v_ogon"/>
          <p:cNvPicPr/>
          <p:nvPr/>
        </p:nvPicPr>
        <p:blipFill>
          <a:blip r:embed="rId2"/>
          <a:stretch/>
        </p:blipFill>
        <p:spPr>
          <a:xfrm>
            <a:off x="1441440" y="400536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каз президента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2014 года президентом Владимиром Путиным подписан указ    о введении в России нового памятного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дека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Неизвестного Солда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8584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не только увековечивает память, воинскую доблесть и бессмертный подвиг российских и советских воинов, погибших в боевых действиях на территории страны и за её пределами, чьё имя осталось неизвестным. Во многих городах России и за ее пределами есть памятники неизвестному солдату, которые «священны для нашего народа», как говорится в пояснительной записке к зако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 Могила Неизвестного Солдата находится в Москве в Александровском саду, у северной стены Кремля. Композиция представляет собой надгробную плиту, на которой покоится бронзовое боевое знамя. На боевом знамени лежат солдатская каска и лавровая ветвь, также изготовленные из бронз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центре мемориала находится ниша, в середине которой, в бронзовой пятиконечной звезде горит Вечный огонь славы. Рядом с огнем из лабрадорита сделана надпись «Имя твоё неизвестно, подвиг твой бессмертен»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5" descr="http://content.foto.mail.ru/mail/dmitriykep/_blogs/i-515.jpg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pomnite-nas.ru/img/61/201006121217260.2.jpg"/>
          <p:cNvPicPr/>
          <p:nvPr/>
        </p:nvPicPr>
        <p:blipFill>
          <a:blip r:embed="rId1"/>
          <a:stretch/>
        </p:blipFill>
        <p:spPr>
          <a:xfrm>
            <a:off x="214200" y="378612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9469569"/>
          <p:cNvPicPr/>
          <p:nvPr/>
        </p:nvPicPr>
        <p:blipFill>
          <a:blip r:embed="rId2"/>
          <a:stretch/>
        </p:blipFill>
        <p:spPr>
          <a:xfrm>
            <a:off x="214200" y="1000080"/>
            <a:ext cx="2495520" cy="153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&amp;Pcy;&amp;ocy;&amp;chcy;&amp;iecy;&amp;tcy;&amp;ncy;&amp;ocy;&amp;mcy;&amp;ucy; &amp;kcy;&amp;acy;&amp;rcy;&amp;acy;&amp;ucy;&amp;lcy;&amp;ucy; &amp;Rcy;&amp;ocy;&amp;scy;&amp;scy;&amp;icy;&amp;icy; &amp;icy;&amp;scy;&amp;pcy;&amp;ocy;&amp;lcy;&amp;ncy;&amp;icy;&amp;lcy;&amp;ocy;&amp;scy;&amp;softcy; 55 &amp;lcy;&amp;iecy;&amp;tcy;"/>
          <p:cNvPicPr/>
          <p:nvPr/>
        </p:nvPicPr>
        <p:blipFill>
          <a:blip r:embed="rId3"/>
          <a:stretch/>
        </p:blipFill>
        <p:spPr>
          <a:xfrm>
            <a:off x="4214880" y="4071960"/>
            <a:ext cx="4608360" cy="258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14760" y="-360"/>
            <a:ext cx="628632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тория появления этого памятника в Москве очень интересна. Широко праздновать победу в Великой Отечественной войне стали лишь в 1965 году. Тогда же Москва получила звание города-героя, а день 9-го мая стал общегосударственным праздником. Возникла идея создания памятника солдатам, сражавшимся и погибшим в боях под Москвой. Этот монумент должен быть всенародного значения, и таким памятником мог стать памятник Неизвестному Солдату. В те дни под Москвой, в Зеленограде в ходе строительных работ, была обнаружена братская могила времен войны. Решено было выбрать погибшего именно отсюда. Выбор остановили на воине в хорошо сохранившейся форме без знаков отличия. Документов при бойце не было – прах его был по-настоящему безымянным. 2 декабря 1966 года, в 14 часов 30 минут, останки воина поместили в гроб, увитый оранжево-черной лентой. Молодые солдаты, стоявшие в почетном карауле, сменялись каждые два часа весь вечер, всю ночь и утро следующего дня.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a5182d19f9f2271dccf78cdf988_prev"/>
          <p:cNvPicPr/>
          <p:nvPr/>
        </p:nvPicPr>
        <p:blipFill>
          <a:blip r:embed="rId1"/>
          <a:stretch/>
        </p:blipFill>
        <p:spPr>
          <a:xfrm>
            <a:off x="4071960" y="21420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f45912ba7d75e8354425904592_prev"/>
          <p:cNvPicPr/>
          <p:nvPr/>
        </p:nvPicPr>
        <p:blipFill>
          <a:blip r:embed="rId2"/>
          <a:stretch/>
        </p:blipFill>
        <p:spPr>
          <a:xfrm>
            <a:off x="285840" y="3857760"/>
            <a:ext cx="4932360" cy="269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netall.ru/gnn/memorials/40/1.jpg"/>
          <p:cNvPicPr/>
          <p:nvPr/>
        </p:nvPicPr>
        <p:blipFill>
          <a:blip r:embed="rId3"/>
          <a:stretch/>
        </p:blipFill>
        <p:spPr>
          <a:xfrm>
            <a:off x="5500800" y="4357800"/>
            <a:ext cx="309708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57120" y="357120"/>
            <a:ext cx="314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 декабря в 11 часов 45 минут гроб установили на открытую машину, которая двинулась по Ленинградскому шоссе к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3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75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%D0%A4%D0%BE%D1%82%D0%BE20_Vdovenco"/>
          <p:cNvPicPr/>
          <p:nvPr/>
        </p:nvPicPr>
        <p:blipFill>
          <a:blip r:embed="rId2"/>
          <a:stretch/>
        </p:blipFill>
        <p:spPr>
          <a:xfrm>
            <a:off x="3492360" y="2933640"/>
            <a:ext cx="5486400" cy="3924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286160" y="642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Манежной площади состоялся митинг. Гроб с останками Неизвестного солдата под артиллерийский залп был опущен в могил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щины, не дождавшиеся своих сыновей и  мужей приходили поклониться праху неизвестного солдата.</a:t>
            </a:r>
            <a:br>
              <a:rPr sz="14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4" descr="59f5900ddf52d9cc33124f5ff80_prev"/>
          <p:cNvPicPr/>
          <p:nvPr/>
        </p:nvPicPr>
        <p:blipFill>
          <a:blip r:embed="rId1"/>
          <a:stretch/>
        </p:blipFill>
        <p:spPr>
          <a:xfrm>
            <a:off x="179280" y="189000"/>
            <a:ext cx="4611960" cy="311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&amp;Rcy;&amp;iecy;&amp;tcy;&amp;rcy;&amp;ocy;&amp;Mcy;&amp;Ocy;&amp;Scy;&amp;fcy;&amp;ocy;&amp;tcy;&amp;ocy; - &amp;Mcy;&amp;ocy;&amp;gcy;&amp;icy;&amp;lcy;&amp;acy; &amp;Ncy;&amp;iecy;&amp;icy;&amp;zcy;&amp;vcy;&amp;iecy;&amp;scy;&amp;tcy;&amp;ncy;&amp;ocy;&amp;gcy;&amp;ocy; &amp;Scy;&amp;ocy;&amp;lcy;&amp;dcy;&amp;acy;&amp;tcy;&amp;acy;"/>
          <p:cNvPicPr/>
          <p:nvPr/>
        </p:nvPicPr>
        <p:blipFill>
          <a:blip r:embed="rId2"/>
          <a:stretch/>
        </p:blipFill>
        <p:spPr>
          <a:xfrm>
            <a:off x="5734080" y="2095560"/>
            <a:ext cx="340992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mosarchiv.mos.ru/downloads/public/mogila/12.jpg"/>
          <p:cNvPicPr/>
          <p:nvPr/>
        </p:nvPicPr>
        <p:blipFill>
          <a:blip r:embed="rId3"/>
          <a:stretch/>
        </p:blipFill>
        <p:spPr>
          <a:xfrm>
            <a:off x="179280" y="3403440"/>
            <a:ext cx="4608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20px-Changing_Guard_Alexander_Garden_Moscow"/>
          <p:cNvPicPr/>
          <p:nvPr/>
        </p:nvPicPr>
        <p:blipFill>
          <a:blip r:embed="rId1"/>
          <a:stretch/>
        </p:blipFill>
        <p:spPr>
          <a:xfrm>
            <a:off x="7048440" y="260280"/>
            <a:ext cx="209556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ttp://moscow-live.ru/g2/main.php?g2_view=core.DownloadItem&amp;g2_itemId=15156&amp;g2_serialNumber=2"/>
          <p:cNvPicPr/>
          <p:nvPr/>
        </p:nvPicPr>
        <p:blipFill>
          <a:blip r:embed="rId2"/>
          <a:stretch/>
        </p:blipFill>
        <p:spPr>
          <a:xfrm>
            <a:off x="179280" y="2133720"/>
            <a:ext cx="6480360" cy="4329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500040" y="500040"/>
            <a:ext cx="63579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8 м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1967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месте перезахоронения открыт мемориальный архитектурный ансамбль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Могила Неизвестного Солд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В том же году правительством было принято решение о ежечасной смене постовых полка № 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48:21Z</dcterms:created>
  <dc:creator>Olga</dc:creator>
  <dc:description/>
  <dc:language>en-US</dc:language>
  <cp:lastModifiedBy>MASTER</cp:lastModifiedBy>
  <cp:lastPrinted>2020-12-01T09:31:55Z</cp:lastPrinted>
  <dcterms:modified xsi:type="dcterms:W3CDTF">2020-12-01T09:32:34Z</dcterms:modified>
  <cp:revision>26</cp:revision>
  <dc:subject/>
  <dc:title>3 декабря - День памяти Неизвестного Солдата</dc:title>
</cp:coreProperties>
</file>